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235-2175-42FB-9479-D596546D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7F9-236F-4C90-AA1F-B71B0D58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738-497D-44BD-9032-7D1A33F7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79C-88FA-44F6-B95C-95B7F68D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C3F-A8E8-4D33-B249-E217DB28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80C-7036-4B29-950F-B8A2AD21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FA9-A3B4-446B-A782-5AF46770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302-965F-4108-B6D3-105945F4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F1E-6F27-4B58-B4C3-FBE211FE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96B-793E-4218-A32C-39198588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9AF-C8ED-48F2-9D5D-B9259782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AAA-FFEE-439F-B891-69404D2C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7F44-A09D-476F-94C6-BF0312380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Sec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lter Mit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nd last name of Fitzgerald’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Zelda Sa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Dexter becomes 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rough laundries - he doesn’t shrink golf s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ting where Dexter and Judy meet for the seco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golf cou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hits one of the players Dexter is playing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xter’s winter d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or a rich lifestyle (main dr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f pro &amp; Judy (smaller dre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Dexter takes after Judy leaves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join the military and go to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 period Fitzgerald was famous for writing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golfer Dexter dreams of playing one day (which he later do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ter Dream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Mr. T.A. Hed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Jody gets for his grandfather at the end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emon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hired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Billy B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ickname Carl gives Jody when Jody is questioning the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Big Britch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igin of the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grandfather was the leader of a group of people moving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1920s - Jazz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ne of the grandfather’s stories - the object the grandfather tells his people of the wagon trains to use to protect themselves from the Ind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 of the Peop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teel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Mitty used to fix the machine with in one of his dayd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s in reality #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parking lot attendant telling Mitty where to park, Mitty remembering the shopping list, and the newsboy yelling about a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that caused Mitty’s dream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eading an article about WWI in the hotel while waiting for hi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ody with the puppy bis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dvertising slogans - the catchy jingles don’t really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mes Thur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the end of Thurber’s writing car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engines of the Navy hydroplane in dream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ret Life of Walter Mit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type of case the ladies in the office call Phoenix (what they write in the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charit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the little boy gives Phoenix in her d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252396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piece of c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of the grandson’s sic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swallowed l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amount of money she received on her trip and where it cam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$0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0.05 fell from the hunter’s p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0.05 was given to her by the lady in the hospital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mes Thur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loss of his eye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Phoenix was going to buy for her grand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n Pat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paper windm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Steinb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novels Steinbeck as popular for writing - dealt with the injustice of the 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Steinb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“protest nove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dora We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ty’s most well known book (it won her the Pulitzer Pr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dora We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ptimist’s Dau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6-02-12T19:44:52Z</dcterms:modified>
  <cp:revision>46</cp:revision>
  <dc:subject/>
  <dc:title>No Slide Title</dc:title>
</cp:coreProperties>
</file>